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2F8-9C07-406A-BD3F-A840A9E8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A5B-EE32-4754-9B00-918513CD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3E6-32D5-4474-8169-DC9966B2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B38-E7F7-48E2-A2D2-15F47EA0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144-0C8F-490D-B590-6B1D4F6E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553-FB87-4C8D-B9B6-F071013E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7B9-5BA7-47FA-B16B-D4E22E6C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DB1-21B1-4D22-8AFE-05AAD8E5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93E-B058-4B5D-877C-4D0EAA8B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8F3-75B1-4D87-A36F-028372C6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D1E-4CEB-4146-9E06-0F5DA3A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885-9E54-465D-A4BE-927EB7E8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CD02-4FB2-4FC0-AB5F-9962C093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t1.gstatic.com/images?q=tbn:ANd9GcRDG5XywgHfmCLgFCqAI72VJOrxrHKd67xldVDLJFsjHFESRjs23A:www.pattersonrec.org/pr2/wp-content/uploads/2012/09/pizza-slice-01.jpg"/>
          <p:cNvPicPr/>
          <p:nvPr/>
        </p:nvPicPr>
        <p:blipFill>
          <a:blip r:embed="rId1"/>
          <a:stretch/>
        </p:blipFill>
        <p:spPr>
          <a:xfrm>
            <a:off x="380880" y="838080"/>
            <a:ext cx="3048120" cy="312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t1.gstatic.com/images?q=tbn:ANd9GcTAQvsleEhRcnhLz7fzWUxlEhgTFM_HjaQv5zS8HtxYVD7hbJekxQ:greatist.com/sites/default/files/styles/article_main/public/wp-content/uploads/2013/02/Sesame-Chicken-Bowl_2.jpg%3Fitok%3D1_0MEs8w"/>
          <p:cNvPicPr/>
          <p:nvPr/>
        </p:nvPicPr>
        <p:blipFill>
          <a:blip r:embed="rId2"/>
          <a:stretch/>
        </p:blipFill>
        <p:spPr>
          <a:xfrm>
            <a:off x="4057560" y="1185840"/>
            <a:ext cx="221004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t1.gstatic.com/images?q=tbn:ANd9GcTxXyjrbK-8rwND1gioYMsOUURrDzpDyLm0w1YiVmGuEw_u6qE3:https://si0.twimg.com/profile_images/2483347344/ou25hjfhqwb0r4wi1fzo.png"/>
          <p:cNvPicPr/>
          <p:nvPr/>
        </p:nvPicPr>
        <p:blipFill>
          <a:blip r:embed="rId3"/>
          <a:stretch/>
        </p:blipFill>
        <p:spPr>
          <a:xfrm>
            <a:off x="417600" y="5715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t2.gstatic.com/images?q=tbn:ANd9GcTK2BbAmI0dDFj0HE6EEfAnqJa2Qp4Vy_hBtzABui77_a2wLUxq:www.chick-fil-a.com/Media/Img/catalog/Food/XLarge/ChickfilA-Spicy-Chicken-Sandwich.png"/>
          <p:cNvPicPr/>
          <p:nvPr/>
        </p:nvPicPr>
        <p:blipFill>
          <a:blip r:embed="rId4"/>
          <a:stretch/>
        </p:blipFill>
        <p:spPr>
          <a:xfrm>
            <a:off x="3740040" y="55627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t1.gstatic.com/images?q=tbn:ANd9GcQNn350LPjiLiPKGSN768DbyEhPrtxjFVbv8eTFq2y2r-K9veenEg:www.cicispizza.com/images/mobile-template/salad.jpg"/>
          <p:cNvPicPr/>
          <p:nvPr/>
        </p:nvPicPr>
        <p:blipFill>
          <a:blip r:embed="rId1"/>
          <a:stretch/>
        </p:blipFill>
        <p:spPr>
          <a:xfrm>
            <a:off x="304920" y="15238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t0.gstatic.com/images?q=tbn:ANd9GcRL7IAbtTwHuLF6uI_YcWLDIgvkSwqWqrdVwrnMwlDyP2BpC8tYxA:farm3.static.flickr.com/2743/4313178394_167ed6753a_o.jpg"/>
          <p:cNvPicPr/>
          <p:nvPr/>
        </p:nvPicPr>
        <p:blipFill>
          <a:blip r:embed="rId2"/>
          <a:stretch/>
        </p:blipFill>
        <p:spPr>
          <a:xfrm>
            <a:off x="3809880" y="1619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t3.gstatic.com/images?q=tbn:ANd9GcTT5Ez_8xIqFzjQJp8Fg9M7c-ARZ7TH_8mxfckebjcZ8qW07UBX:pinchmysalt.com/wp-content/uploads/2008/11/img_2554-version-21.jpg"/>
          <p:cNvPicPr/>
          <p:nvPr/>
        </p:nvPicPr>
        <p:blipFill>
          <a:blip r:embed="rId3"/>
          <a:stretch/>
        </p:blipFill>
        <p:spPr>
          <a:xfrm>
            <a:off x="457200" y="5562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t2.gstatic.com/images?q=tbn:ANd9GcQgwhZQ4HUEXf4rmjzOUd0CRwObmT4rlfD7cz_-Pl_yvh7570USlA:www.mbswholesale.co.uk/acatalog/k062.gif"/>
          <p:cNvPicPr/>
          <p:nvPr/>
        </p:nvPicPr>
        <p:blipFill>
          <a:blip r:embed="rId4"/>
          <a:stretch/>
        </p:blipFill>
        <p:spPr>
          <a:xfrm>
            <a:off x="4056120" y="5562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t1.gstatic.com/images?q=tbn:ANd9GcSmICKxetu1vNcIeKNmNmA9skv_yK4l1b3Om3OPcWf3ZYFt_Hya:img.foodnetwork.com/FOOD/2011/08/23/HE_ketchup_s4x3_lead.jpg"/>
          <p:cNvPicPr/>
          <p:nvPr/>
        </p:nvPicPr>
        <p:blipFill>
          <a:blip r:embed="rId1"/>
          <a:stretch/>
        </p:blipFill>
        <p:spPr>
          <a:xfrm>
            <a:off x="457200" y="1447920"/>
            <a:ext cx="2819520" cy="21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t2.gstatic.com/images?q=tbn:ANd9GcQCJI7qQNQRmyKe95J2VXvI4FNH_ndAGTYMSOEW_nU_kbnNYhaU:media.coreperformance.com/images/411*308/mustard-a-cure-for-cramps.jpg"/>
          <p:cNvPicPr/>
          <p:nvPr/>
        </p:nvPicPr>
        <p:blipFill>
          <a:blip r:embed="rId2"/>
          <a:stretch/>
        </p:blipFill>
        <p:spPr>
          <a:xfrm>
            <a:off x="3733920" y="159084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t0.gstatic.com/images?q=tbn:ANd9GcSwgSS0GGDN6beEWhIcM4e7H5q33BbGcnCfQOf0kdp8tMq9ko1R"/>
          <p:cNvPicPr/>
          <p:nvPr/>
        </p:nvPicPr>
        <p:blipFill>
          <a:blip r:embed="rId3"/>
          <a:stretch/>
        </p:blipFill>
        <p:spPr>
          <a:xfrm>
            <a:off x="728640" y="58672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t3.gstatic.com/images?q=tbn:ANd9GcQJjlkIJ-doHKhW90wEaiB4prqDYzR1J5ldJkcHKD6NLb0EYITnSry0NyX2"/>
          <p:cNvPicPr/>
          <p:nvPr/>
        </p:nvPicPr>
        <p:blipFill>
          <a:blip r:embed="rId4"/>
          <a:stretch/>
        </p:blipFill>
        <p:spPr>
          <a:xfrm>
            <a:off x="3706920" y="5638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Madden Shelby</cp:lastModifiedBy>
  <cp:lastPrinted>2013-09-19T15:59:17Z</cp:lastPrinted>
  <dcterms:modified xsi:type="dcterms:W3CDTF">2013-09-23T15:31:07Z</dcterms:modified>
  <cp:revision>7</cp:revision>
  <dc:subject/>
  <dc:title>Slide 1</dc:title>
</cp:coreProperties>
</file>